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3AE-8AAC-4087-BA34-B2D3CFBF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DC2-42BD-481F-8927-D53DB1D7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B27-CA84-452D-9F0E-9AC3C56E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9B9-9A96-46B0-BDEB-965FA0B7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8499-6725-4D71-8CF4-66C75DF2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DBA9-FAEF-49D9-BB77-F4172EF9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B7DA-4EAA-4B99-B22D-4C5E70BC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B33E-1B28-4CD3-A6CA-2D213D1B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DF23-75A5-4D5D-A4C4-D4D607E7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E5BC-0159-4C30-9BFF-A54B6882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0CD1-CB98-41A5-9DCA-A2578FF4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0DA-479C-416D-9595-4F873383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CD6F-5A79-4D52-8E9B-EA566C5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F0CC-7835-4071-A310-5B3C1DB8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CE59-F1F5-47FF-BACB-1251AE6E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D01D-B128-4A6D-B37C-60493D5B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EE25-F6C2-4E91-9D82-BF575473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3C4DF-290C-402B-9291-CBC50677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8618-C027-43E9-A81A-D3B051F1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FFC1-7DAC-468A-B780-3A6B175E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7921-D5F3-4B22-9655-2F50147B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BC73-26B3-4EE2-97A4-E06F4EEC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09E-4651-463D-9F79-22799C4F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5097-E8EB-4C3E-A878-E00DC9B7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88ABF-019E-4EF4-8E1D-663BB080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90CA-1D0A-47E7-9077-8277DA48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DEC8-7D68-4A14-92BA-A724ADBB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14B6-DB83-4D2B-9DD3-3AF88C4C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6FFB-6485-464C-AB94-F5FADADA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0249-AC42-4FBB-98EF-40650B85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7205-C5B7-4FE8-8F08-2D12D885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A24ED-DAEA-4DFC-BE56-DFB00A31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E33A2-FCD0-44D1-9C80-E6C4108F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A54-A02F-451B-8068-21E7DD6A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3FB5-FCD9-4E94-8880-94EC84CF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DC02D-7C0B-4FE5-A851-C3B477F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AB209-D409-4644-8E5E-90A0F0C2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7C9D-A22B-410D-96EA-670E6321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BB96-2B22-45F2-B9FD-235972F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5F76-4157-471A-993E-5ECA000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FE73-27C6-43BE-8400-08A8AD5A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E234D-1F6F-4935-AA22-85652B44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4C07F-9A4F-47D3-AA2C-DFE3D6A5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48E92-178E-4C83-BCF7-75AD43E1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5BC-1985-4A99-BC4E-A6F92B8C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49B8C-C96F-4431-BEC6-43E52260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FC85E-6E54-49F4-9211-DFA03435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6BA1D-7E47-4165-8BE4-4010B07B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2CF0A-3297-47C5-932B-C3DB65D7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F3684-E03E-410A-8DBA-B4536FFE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75BC-AFED-4C17-AC94-716CAF3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66DF0-2795-4959-A0C4-70F3228B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0A48-0FEA-4379-AA07-0A4741B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6CCAB-A982-41C8-BC48-D3CEA39A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80E61-621A-4191-8384-90C5A128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2EE-4404-49CA-A27D-AA479DF1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16587-5024-470B-9025-E0675C85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C0B09-5674-4FBA-9559-6B4FCEE2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9C7A7-3473-4378-B546-935D7954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359F-AF5D-4491-B5F9-6D159CB9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B217B-1522-462B-9EAA-80468D09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4962F-7B97-416F-87F1-48627EDC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106FA-22B0-4457-977F-1B4FE2F5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DF016-D47E-40AF-A662-1B9DF424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B0A7D-714B-4DA9-83BB-177B6DBC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0859-6614-49B2-9B9C-E7B65942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B46-47C7-4B2F-BAF6-24822431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E0A2A-BED3-47D7-8EF4-531A2151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9C28F-8056-412D-9809-545602F5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9A25F-8FAC-4A56-B045-D3AE5317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252E-8BE5-442A-B4C5-BC03CE43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9E7D5-0491-4754-8674-71DE014B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9B5F3-FD7D-4D01-8B07-2792A035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C6EDB-693E-41E7-84EC-F445CAB0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59CBA-4A2D-4984-BE45-62EE0F46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40523-E62C-4769-A23D-2835CB3F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9DFB3-A0C2-4B2A-ABA6-C478DD3B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699-3C5C-46D3-82D3-0BA342A3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8AAEA-CE9C-4CE8-A6F4-283D6385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32A7D-915A-4F47-A3AF-86FD6DE8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B7FB7-17E7-418E-BA62-C94479BD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69ABB-642D-4064-9A9A-A3F1E811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A7BD2-589A-4612-AFED-2E6272AB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64F-9CE4-4689-99E1-DA0B22C2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5AFB-0D69-40E9-979E-98FE40007B8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4BEB-E3FB-4BC3-96D7-A08A1C2B062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1C9F-EBAA-4A60-A5D5-BDE358E4637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AA0E-1E84-4590-B620-C29548BDAAB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2B77-FD5F-4C2B-8262-36B65E02DCC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253F-B5E4-485A-89F0-5235933E21C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DA6A-100E-4D74-A86E-1F10F17C8B0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560520" y="974880"/>
            <a:ext cx="8175600" cy="42922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Gladys Martínez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AP Literatura  Avanzada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Corbel"/>
              </a:rPr>
              <a:t>4 de Diciembre del 2008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12280"/>
            <a:ext cx="8305920" cy="29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1eeff"/>
                </a:solidFill>
                <a:latin typeface="Consolas"/>
              </a:rPr>
              <a:t>Quéjase de la suerte: insinúa su aversión a los vicios, y justifica su divertimiento a las Musas (“En perseguirme, Mundo, ¿qué interesas?”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3580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Métric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l soneto es una combinación de catorce versos, los cuales están estructurados en dos cuartetos seguidos por dos terceto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l esquema de la rima más general es ABBA, ABBA, CDC, DCD, aunque son posibles otros esquem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em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feminism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Crítica a la superficialidad de la socieda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intelect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ON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atíric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cusatori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Resumen del Sonet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Poema cuenta como Sor Juana responde al ataque  de la sociedad Mexicana de esa época. Es expresado lo difícil que es ser mujer en este espacio y este tiempo. En este soneto, Sor Juana se queja de la falta de comprensión de que es objeto, y defiende su pasión por la poesía, y su ardor por los estudi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Ambient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iglo XV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144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orbel"/>
              </a:rPr>
              <a:t>Sátira filosófica: arguye de inconsecuencia el gusto y la censura de los hombres que en las mujeres acusan lo que causan  (“Hombres necios que acusáis”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c1eeff"/>
                </a:solidFill>
                <a:uFillTx/>
                <a:latin typeface="Consolas"/>
              </a:rPr>
              <a:t>Métric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6094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erie de redondilla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(cuatro versos de ocho 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ílabas  con la rima  abba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ílabas: Ocho sílabas  en cada verso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Hombres necios que acusáis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a la mujer sin razón,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in ver que sois la ocasión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1 2 3 4 5 6 7 + 1 = 8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de lo mismo que culpáis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Rima:  Rima perfecta, con el esquema abb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Hombres necios que acusáis    a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a la mujer sin razón,                     b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sin ver que sois la ocasión         b</a:t>
            </a:r>
            <a:br>
              <a:rPr sz="2100"/>
            </a:b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de lo mismo que culpáis:            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Corbel"/>
              </a:rPr>
              <a:t>Versos agudos: el verso agudo (termina con palabra aguda y el acento tónico cae en la última sílab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rbel"/>
              </a:rPr>
              <a:t>Rima asonant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DAT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Hablant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Hablante líric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udiencia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Hombres neci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d6ecff"/>
                </a:solidFill>
                <a:latin typeface="Corbel"/>
              </a:rPr>
              <a:t>Poesía : Hombres Necios que Acusá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d6ecff"/>
                </a:solidFill>
                <a:latin typeface="Corbel"/>
              </a:rPr>
              <a:t>Fecha de la poesía: 166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EM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La diferencia entre los roles sociales de los hombres y las muje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La injustic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xpectativas soci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l machism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Feminismo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9" descr=""/>
          <p:cNvPicPr/>
          <p:nvPr/>
        </p:nvPicPr>
        <p:blipFill>
          <a:blip r:embed="rId1"/>
          <a:stretch/>
        </p:blipFill>
        <p:spPr>
          <a:xfrm>
            <a:off x="0" y="228600"/>
            <a:ext cx="4576680" cy="5113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http://span3per1.files.wordpress.com/2008/04/sor-juana-retrato.gif"/>
          <p:cNvPicPr/>
          <p:nvPr/>
        </p:nvPicPr>
        <p:blipFill>
          <a:blip r:embed="rId2"/>
          <a:stretch/>
        </p:blipFill>
        <p:spPr>
          <a:xfrm>
            <a:off x="4876920" y="228600"/>
            <a:ext cx="3886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Ton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cusatori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asiona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Intelectual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RESUM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En el poema, la voz poética reprocha a los hombres su actitud ante las mujeres. Sor Juana satiriza las relaciones entre hombres y las mujeres, exponiendo a su burla la falta de lógica del hombre que acusa a la mujer del comportamiento que él mismo provoca en ell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Alejandro Soriano Vallés.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Aquella Fénix más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rara. Vida de Sor Juana Inés de la Cruz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.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México, Nueva Imagen, 2000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Juana Inés dela Cruz, Sor.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Poesía lírica.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 Edición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José Carlos González Boixo. Madrid: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diciones Cátedra, 1992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dición digital a partir de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Anales de Literatura 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Corbel"/>
              </a:rPr>
              <a:t>Española,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 núm. 13 (1999), Alicante,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Universidad, Departamento de Literatura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Española, pp. 85-105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Friedman, Edward, Valdivieso, L., y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Virgillo, Carmelo. 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  <a:ea typeface="Arial"/>
              </a:rPr>
              <a:t>Aproximaciones al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	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  <a:ea typeface="Arial"/>
              </a:rPr>
              <a:t>estudio de la literatura hispánica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  <a:ea typeface="Arial"/>
              </a:rPr>
              <a:t>. (2004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La Cruz, Juana I. "Sátira filosófica: arguye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de inconsecuencia el gusto y la censura de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los hombres que en las mujeres acusan lo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que causan  (“Hombres necios que acusáis”)."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orbel"/>
              </a:rPr>
              <a:t>Abriendo Puertas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. Vol. 1. Evanston: 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orbel"/>
              </a:rPr>
              <a:t>McDougal Littell Incorporated, 2003. 378-81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Bibliografí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De La Cruz, Juana I. "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 Quéjase de la suerte: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insinúa su aversión a los vicios, y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justifica su divertimiento a las Musas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(“En perseguirme, Mundo, ¿qué 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interesas?”)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." </a:t>
            </a:r>
            <a:r>
              <a:rPr b="0" lang="es-MX" sz="3000" spc="-1" strike="noStrike" u="sng">
                <a:solidFill>
                  <a:srgbClr val="ffffff"/>
                </a:solidFill>
                <a:uFillTx/>
                <a:latin typeface="Corbel"/>
              </a:rPr>
              <a:t>Abriendo Puertas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. Vol. 1.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Evanston: McDougal Littell Incorporated, 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2003. 377-78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c1eeff"/>
                </a:solidFill>
                <a:uFillTx/>
                <a:latin typeface="Consolas"/>
              </a:rPr>
              <a:t>¿Sor Juana Inés de la Cruz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295280"/>
            <a:ext cx="7772400" cy="518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Corbel"/>
              </a:rPr>
              <a:t>Juana Inés de Asbaje y Ramírez de Santillan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Nacida el 12 de noviembre de 1651, en el pueblo de San Miguel Nepantl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autodidacta, humanista, gran poeta mexican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hija de criolla Isabel Ramírez de Santillana y el vizcaíno Pedro Manuel de Asbaje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Inteligencia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corte virreinal : dama de la virreina Doña Leonor Carreto, Marquesa de Mancera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Convento de San José de Carmelitas Descalzas en el 14 de agosto 1667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Enclaustramiento vs. Matrimonio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dedicación al estudio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Corbel"/>
              </a:rPr>
              <a:t>Murió: Ciudad de México,  1695- por una epidemia el 17 de abril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1eeff"/>
                </a:solidFill>
                <a:latin typeface="Consolas"/>
              </a:rPr>
              <a:t>Curiosidad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1eeff"/>
                </a:solidFill>
                <a:latin typeface="Corbel"/>
              </a:rPr>
              <a:t>aparece en los billetes mexicanos de alta denominació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areció en los mil pesos (con inflación terminaron volviéndose monedas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Sor Juana salió de circulación brevemente, para reaparecer en los billetes de dosciento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1eeff"/>
                </a:solidFill>
                <a:latin typeface="Consolas"/>
              </a:rPr>
              <a:t>Las obras po</a:t>
            </a:r>
            <a:r>
              <a:rPr b="0" lang="es-MX" sz="3600" spc="-1" strike="noStrike">
                <a:solidFill>
                  <a:srgbClr val="c1eeff"/>
                </a:solidFill>
                <a:latin typeface="Consolas"/>
                <a:ea typeface="Arial"/>
              </a:rPr>
              <a:t>éticas de Sor Juana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</a:rPr>
              <a:t>Inundaci</a:t>
            </a: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ón castálida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689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Segundo volumen de la obra de Sor Juana Inés de la Cruz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691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Fama y obra póstuma del Fénix de México, Décima Musa </a:t>
            </a:r>
            <a:r>
              <a:rPr b="0" lang="es-MX" sz="2600" spc="-1" strike="noStrike">
                <a:solidFill>
                  <a:srgbClr val="ffffff"/>
                </a:solidFill>
                <a:latin typeface="Corbel"/>
                <a:ea typeface="Arial"/>
              </a:rPr>
              <a:t>(1700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6477120" y="4572000"/>
            <a:ext cx="213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MOVIMIENTO LITERARI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Corbel"/>
              </a:rPr>
              <a:t>Barroco</a:t>
            </a: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ovimiento artístico y cultural extendido por toda Europa y que entraña una evolución de las ideas del Renacimiento, que supone cambios drásticos en la forma de pensar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renovación de técnicas y de estil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ezclando estrofas tradicionales con las nuevas, así cultivaron el terceto, el cuarteto, el soneto y la redondill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ASES DEL BARROC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anierismo (1520 - 1560): Se caracteriza por la desintegración del Renacimiento. Es un estilo de crisis, desproporcionado, con exceso de ornamentación, intelectualista. Es la primera fase del Barroco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Barroco (1620 - 1680): Es el estilo de la Contrarreforma. Se da una exageración de las características del manierismo sin proponer nuevas formas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Barroco tardío (1680 – 1700): Se caracteriza por un retorno al clasicismo que llevará al Neoclasicismo, es de nuevo un episodio de desintegración, en este caso de las formas barrocas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ENOMENO DEL BARROC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CULTERANISMO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Predomina la poesí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Renueva la sintaxis; las ideas no cambia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Originalidad de la palabr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Valores del renacimient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rbel"/>
              </a:rPr>
              <a:t>Metáforas brillantes Góngora el mayor expedient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1eeff"/>
                </a:solidFill>
                <a:latin typeface="Consolas"/>
              </a:rPr>
              <a:t>FIGURA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ntítes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Metáfo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Retruécan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Apostrof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Corbel"/>
              </a:rPr>
              <a:t>Circunlocució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1:24:41Z</dcterms:created>
  <dc:creator>Gladys Mabel Martiez</dc:creator>
  <dc:description/>
  <dc:language>en-US</dc:language>
  <cp:lastModifiedBy>Gladys Mabel Martiez</cp:lastModifiedBy>
  <dcterms:modified xsi:type="dcterms:W3CDTF">2008-12-04T19:07:58Z</dcterms:modified>
  <cp:revision>64</cp:revision>
  <dc:subject/>
  <dc:title>Slide 1</dc:title>
</cp:coreProperties>
</file>